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802-7292-4F79-B78C-C4742332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B0F-FC0C-4AF1-A201-7EF9D7F4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1C6-2C0E-45EC-B27F-4E253ED0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18F-69B0-4D92-A35E-CBCC7822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C2C7-9933-424D-B3B1-7CF7DD45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3116-1EB7-46A7-BD2C-EF73A856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5BC2-F3DA-4E53-8975-721FFA88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CB8B-B489-4B9F-BBE8-F181EFDA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44CE-3493-4ED2-9840-942DD94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7EE-BB22-4002-869A-EB875B83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30D3-9347-475F-8083-553A6DA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B2A-8453-4DC5-9172-BEE3EBFA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37F5-B289-4261-8678-D7E55C5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8BB-8954-4863-A2F8-B3FFF42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79AA-B29F-4968-AF1B-EBD67CEE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C443-3846-454F-B631-355B7E83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CAC-6584-4C07-BE30-3F7D5291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64AB-E876-4812-967A-1B73429F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30F7-648E-4CDA-B9EF-1C5E4E1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96B5-B7BE-4549-B6D5-62FEB22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22C6-DA25-439F-B5FC-833DC14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C3EB-6F2E-46F8-9A92-86C40AB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5B7-4AA0-4789-B0B1-0695A90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4369-ACE8-4E13-9C0D-79348BC4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D576-FAEA-443C-8FC2-9888030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358D-7464-4C10-9B39-24D2C2B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E345-912B-4A46-BCA6-61895F0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ADE8-04AC-4A83-B7EA-E874373A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535B-8D7B-4131-B205-BB974A8C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E3AD-215E-4E4A-9234-12947FB7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9E76-6FD2-4454-966A-6ACE251E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2F66-2E8E-4838-AFB5-5461144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08D6-9435-4E7C-8E46-61165759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DE8-3732-47D4-8A27-6C5041B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0739-E28A-47FB-871F-C5416501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A17C-BD1E-4CF6-A26D-6EB3D7E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9F5C8-FF7F-458A-B6A4-9310388D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FE93-919F-4FB8-AB4A-DE1F883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DE10-2502-4B7C-AE7B-B44412B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CEC5-91D8-4E32-BEB0-F780ED0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5B5B-6F48-45EC-B2AD-3435E77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1EBC1-B2C4-4953-AC8A-3580FED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5DB86-B630-432E-B1B1-81EDCDA6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58D-3A38-4356-AC1F-C19EDC7D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0AB-32FE-4EC0-9295-6FD6CB16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0C5-769B-4A4E-9E7C-FE599C13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E42-70D1-47CF-95EA-3073B04F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CC4-2147-4E2F-9B83-AC92B3B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5A9-3E0E-4679-BA56-414B1AABD1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E050-241F-400E-89DB-C0E5FA4C4D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6703-4332-437E-950F-3AF3FB305A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42C-9F61-4759-86A4-A1799116A5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an Flor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ler Fornwal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stin Le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rry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li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 2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hange of a substance from a solid to a vapor without passing through a liquid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.g., ice becomes water vapor without thawing, or dry 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occurs when the vapor pressure exceeds atmospher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ase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943240" y="837720"/>
            <a:ext cx="2971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 2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www.chemistry.wustl.edu/~courses/genchem/LabTutorials/Thermochem/images/PhaseChanges.jpg"/>
          <p:cNvPicPr/>
          <p:nvPr/>
        </p:nvPicPr>
        <p:blipFill>
          <a:blip r:embed="rId1"/>
          <a:stretch/>
        </p:blipFill>
        <p:spPr>
          <a:xfrm>
            <a:off x="0" y="914400"/>
            <a:ext cx="58672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ase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90960" y="762120"/>
            <a:ext cx="3352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 2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iple point – conditions at which all 3 phases exist at o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itical point – conditions where no phase boundaries ex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chemwiki.ucdavis.edu/@api/deki/files/7399/=f_copy.png"/>
          <p:cNvPicPr/>
          <p:nvPr/>
        </p:nvPicPr>
        <p:blipFill>
          <a:blip r:embed="rId1"/>
          <a:srcRect l="0" t="8052" r="8726" b="0"/>
          <a:stretch/>
        </p:blipFill>
        <p:spPr>
          <a:xfrm>
            <a:off x="0" y="762120"/>
            <a:ext cx="58672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4. What do the lines (not axes) on a triple point diagram repres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The conditions at which two phases exist in equilibri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36:18Z</dcterms:created>
  <dc:creator>14rliu</dc:creator>
  <dc:description/>
  <dc:language>en-US</dc:language>
  <cp:lastModifiedBy>14rliu</cp:lastModifiedBy>
  <dcterms:modified xsi:type="dcterms:W3CDTF">2012-04-26T13:17:01Z</dcterms:modified>
  <cp:revision>5</cp:revision>
  <dc:subject/>
  <dc:title>13.4 Changes of State</dc:title>
</cp:coreProperties>
</file>